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7524-88BC-4EE7-A7F2-071570259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7D22-8ECB-4251-A417-23B280E83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3EFA-0C77-4451-AB8C-A0A0D3B82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94BF-3AB8-4FE6-815E-A2120B569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370E-42CE-4F71-A44C-980337BE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B0E8-056A-4014-859D-4377F2B6F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C62C-092F-4084-B8FE-834879C9C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3D1A-F39A-49E1-ABD0-9CC04F43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C885-7B61-488A-B792-99E396F5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5384-0930-4A13-94CA-F79D9121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2353-DAFE-4902-879F-065613DF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6107-3D63-42AA-855E-8C648F99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07B8-E8ED-4B8E-AC35-132AA80F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B9F8-CCA2-41A3-AAC9-9FB5F644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C97E-8E44-40C7-BB0A-A5C90323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58C0-E0E6-4B55-A451-9A57D8AA0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968560"/>
            <a:ext cx="777240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едијатрија – Исхрана 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иљана Вулети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1619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14760" y="1004760"/>
            <a:ext cx="50788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ЕТАБОЛИЧК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ПРОЦЕС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853560" y="2747880"/>
            <a:ext cx="64764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ЕКОМПЛЕТ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СИНТЕ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НСУФИЦИЈЕНТ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УРЕОГЕНЕ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ЖУЧН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КИСЕЛ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ЕДОВОЉ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СИНТЕ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АРНИТИНА</a:t>
            </a:r>
            <a:r>
              <a:rPr b="1" lang="sl-SI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725120" y="928800"/>
            <a:ext cx="47106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ЕНАЛ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ХОМЕОСТАЗ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57400" y="2057400"/>
            <a:ext cx="774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ФИЗИОЛОШ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АТУРАЦИ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УБРЕГ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ОК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ЕЗРЕ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F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О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РАНИЦ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УБУЛСК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ФУНКЦИ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ИНСУФИЦИЈЕНТ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974880" y="5400720"/>
            <a:ext cx="6543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НЕФРОН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ПУН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U 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МАТУРАЦИЈУ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  2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год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28600" y="1152360"/>
            <a:ext cx="86868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ОДОЈЧЕТ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ОСНОВ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ПРИНЦИП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46320" y="2374920"/>
            <a:ext cx="7824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.)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ЛАВ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ЗВО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РАНЉИВ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АТЕРИ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ЕД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Р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В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4-6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е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.)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НЕМЛЕЧ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Р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УН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4-6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ес.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895680" y="1109520"/>
            <a:ext cx="73335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ЛЕЧ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ЕЖИ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СХРА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ОДОЈЧЕТ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922680" y="2862360"/>
            <a:ext cx="677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ИРОД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МАЈЧИ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ВОВРС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ДОХРАЊИВ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ЕШТАЧ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143000" y="695160"/>
            <a:ext cx="601992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ПРИРОД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ДОЈЕЊЕ     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35480" y="3929040"/>
            <a:ext cx="729936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ОЛОСТРУ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4-5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(100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оте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gA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ЕЛАЗ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четко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3 недељ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ЗРЕЛ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оденаст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искрет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лавичаст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10320" y="2000160"/>
            <a:ext cx="8429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ДЕАЛ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РА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1 г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АМ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БЕЗБЕЂУ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a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ТРЕБ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279440" y="487440"/>
            <a:ext cx="58071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АСТАВ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ХУМАНО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4200" y="2097000"/>
            <a:ext cx="88534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ОТЕИ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рављ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3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r/l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АК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УМИ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,6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АЗЕИ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,7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gr/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ДЕА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335400" y="258840"/>
            <a:ext cx="162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АСТ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55040" y="981000"/>
            <a:ext cx="8621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рављ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38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ИНОЛЕНСК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И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1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3- 6%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al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ИНОЛ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И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и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1-2%)              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08440" y="3470400"/>
            <a:ext cx="5959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ГЉЕНИ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ХИДРАТИ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394560" y="4844880"/>
            <a:ext cx="862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7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рављ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47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АКТОЗ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АКТОЗ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168560" y="914400"/>
            <a:ext cx="61401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НТИИНФЕКТИВ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ВОЈСТВ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01320" y="1903320"/>
            <a:ext cx="787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gA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1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ОЛОСТРУ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20-4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g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gG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838080" y="3200400"/>
            <a:ext cx="7755120" cy="356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ЕБИОТ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“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лигосахаридни ,несварљиви састојци хране који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ндукују раст "корисних"   бактер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АЖ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B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S B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БИОТИЦИ : “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живи микроорганизми који позитивно делују на организам домаћина 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914400" y="979560"/>
            <a:ext cx="7467480" cy="265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ГВОЖЂЕ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0,5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0,45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рављ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ОЉ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С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И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 –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KT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ФЕРИ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990720" y="4373640"/>
            <a:ext cx="7086600" cy="19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i="1" lang="sr-R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R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Ca /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0,271 /  0,141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1,370/ 0,910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839880" y="1143000"/>
            <a:ext cx="7084800" cy="289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1" lang="sr-R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sl-SI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3366"/>
                </a:solidFill>
                <a:latin typeface="Times New Roman"/>
              </a:rPr>
              <a:t>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ИТА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АЛ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РЖ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J 100-240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I.J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ЕДА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И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200240" y="4643280"/>
            <a:ext cx="6632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В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СТАЛ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ИТАМИ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ПТИМАЛН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80880" y="390600"/>
            <a:ext cx="84582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АТУРАЦИЈ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ОТОРНИ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ФУНКЦИЈ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ГИ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457200" y="1384200"/>
            <a:ext cx="8470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-17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гн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ФЕТАЛНИ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ПОКРЕТИ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ГУТАЊ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34-36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гн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СНАЖАН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РЕФЛЕКС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СИСАЊ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ГУТАЊЕ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СИНХРОНО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С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РЕСПИРАЦИЈАМ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4-6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мес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ГУБИТАК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ЕКСТРУЗИОНОГ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РЕФЛЕК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ПРИХВАТАЊ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КАШАСТ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ХРАН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6-8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мес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МЛЕЧН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ДЕНТИЦИЈ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КОНТРОЛ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ПРВ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ФАЗ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ГУТАЊ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7-10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мес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ЖВАКАЊ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ГРИЦКАЊ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ме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СЛОЖЕНИ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ПОКРЕТИ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ЖВАКАЊА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МРВЉЕЊ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ПРИХВАТАЊ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ЧВРСТ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ХРА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ПОЧЕТАК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КОРИШЋЕЊ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ПРИБОР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ЈЕЛ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sl-SI" sz="2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80880" y="838080"/>
            <a:ext cx="77724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ФУКЦИОНАЛ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АЗВО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ДИГЕСТИ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ПСОРПЦИЈЕ ПРОТЕИН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73320" y="2759040"/>
            <a:ext cx="8750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ЖЕЛУДАЦ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ЕПСИ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ЦРЕВ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ОТЕАЗ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АНКРЕАС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РТ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РВОТО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ЕТ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ИНТЕ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АЗЛИЧИТ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ПЕЦИФИЧН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ОТЕ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04920" y="898560"/>
            <a:ext cx="830556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ФУНКЦИОНАЛ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АЗВО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ДИГЕСТИ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ПСОРПЦИЈ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АСТ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53240" y="2960640"/>
            <a:ext cx="8718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ЕЧ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ИПА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0-40 %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ИНГВАЛ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ГАСТРИЧ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ИПА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0-30%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АНКРЕАС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ИПА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ЕНТЕРОЦИТ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ИПА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У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СОЛ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04920" y="914400"/>
            <a:ext cx="8458200" cy="241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Times New Roman"/>
              </a:rPr>
              <a:t>           </a:t>
            </a:r>
            <a:r>
              <a:rPr b="1" lang="sr-RS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Т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ДУГО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АНЦ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ЕЕСТЕРИФИКАЦИ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 М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ПОЛИПОПРОТЕИ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ИЛОМОКРО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ИМФОТ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39120" y="3733920"/>
            <a:ext cx="7698960" cy="198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1" lang="sr-RS" sz="24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Т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Р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K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О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РЕДЊ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АН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А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ИДРО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ЛОБ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Е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ТЕРИФ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АЦ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ЛИМФО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762120"/>
            <a:ext cx="9067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ФУНКЦИОНАЛ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АЗВО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ДИГЕСТИ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ПСОРПЦИЈ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УГЉЕНИХ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ХИДРАТ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52000" y="2174760"/>
            <a:ext cx="8787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ЛФ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МИЛА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ЉУВАЧК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рођењ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ејств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рестај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ЛФ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МИЛА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АНКРЕАС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уоденум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мал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активност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ајвећ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е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олисахарид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хра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ИСАХАРИДАЗ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АКТА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АХАРА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АЛТАЗ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626400" y="828720"/>
            <a:ext cx="854028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ГЛУКО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.)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...МЕТАБОЛИШ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, ДА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ЕНЕГРИ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ЛИКОЛИ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ЦИКЛУ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РИКАРБОНСК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- ПИРОГРОЖЂАНАки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.)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...ПРЕТВАР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ЛИКОГЕ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...ДЕПОНУ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ЕТР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ИШИЋИ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етр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дојчет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1/ 10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е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драсло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ликоге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езерв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3,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ЕТАБОЛИСАЊЕ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ola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lu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72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c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108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852480"/>
            <a:ext cx="92962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ИНИОЦ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НТЕ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НАЛН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УКОЗ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БАРИЈЕ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22120" y="1336680"/>
            <a:ext cx="839556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.) 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НЕСП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ЦИФИЧНИ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ТРАЛУМИНАЛ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цидопептич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ијер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анкр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отеолиз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еристалти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.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УКОЗ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у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икрови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з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емб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n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919440" y="1209600"/>
            <a:ext cx="358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.) 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ПЕЦИФИЧН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914040" y="2546280"/>
            <a:ext cx="48013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.)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ЕКРЕТОР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gA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.)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ЦЕЛУЛАР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МУНИТЕ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64360" y="4657680"/>
            <a:ext cx="70833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ОМПЛЕТ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АТУРАЦИЈ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ГОД</a:t>
            </a:r>
            <a:r>
              <a:rPr b="0" lang="sl-SI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2T08:21:29Z</dcterms:created>
  <dc:creator>No Name</dc:creator>
  <dc:description/>
  <dc:language>en-US</dc:language>
  <cp:lastModifiedBy>USER</cp:lastModifiedBy>
  <dcterms:modified xsi:type="dcterms:W3CDTF">2017-09-25T06:32:26Z</dcterms:modified>
  <cp:revision>35</cp:revision>
  <dc:subject/>
  <dc:title>PowerPoint Presentation</dc:title>
</cp:coreProperties>
</file>