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37D-CEFF-4F2E-8E11-1A82B827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F99-542F-4F51-A777-291C0A2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35B-43AC-426E-B550-106B47C0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763-9656-48FB-B165-506D9A76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7A9-9557-43F3-9307-5332941A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DF9-7D57-473B-81B1-43C8EAE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028-7C4C-4D9A-AE6A-2B7AF13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F96-AC82-4D93-BCF4-59D3EA3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AF1-E117-4726-AB0E-2FAF5DF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911-4323-4164-88F7-922D4BC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F99-F3A9-4F51-B60D-6B0EFE6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514-86E7-483C-B20E-47ABB4E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C367-E048-4E30-A0C2-3074B7637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82280" y="324000"/>
            <a:ext cx="7848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ORE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 N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Ђ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У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5: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ТПРОС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Ш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ЛО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вивалент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M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RV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ЛОУ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46360" y="609480"/>
            <a:ext cx="72414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ЕН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КУНД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УН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74120" y="743040"/>
            <a:ext cx="732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ФЕ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ЦИЈ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РЕН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. CROH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Corporate Edition</cp:lastModifiedBy>
  <dcterms:modified xsi:type="dcterms:W3CDTF">2014-08-23T07:31:02Z</dcterms:modified>
  <cp:revision>33</cp:revision>
  <dc:subject/>
  <dc:title>PowerPoint Presentation</dc:title>
</cp:coreProperties>
</file>