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41C5-B934-4EE2-9AF2-20FD39E28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33CA-C793-4FAF-99AA-944E0AD70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C8A-9784-4BC7-80D5-C3C0EB0E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409-216A-4F22-B080-22A3AE89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EA6-8CEE-4284-BC01-9CEE036E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34A-5A2E-4CEF-9EC8-9AA1960C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C18-31D5-4762-BD73-234DA60A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F52-C85F-4FDA-B593-ACF6FD82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79D-4FAD-430C-8312-4B075266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FCC-4DAF-4177-86E3-0FBF9716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A58-84BD-4583-B903-DD6DF9B3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017-7402-4A90-BB38-5DA8B7FC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A46-2231-4CB9-89A9-35BFBCF4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5C1-38EB-48AF-9811-C4A79FB0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5E6E-65BF-4804-BD72-E586078FC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94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едијатрија – Исхрана 6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63852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АХИТИС   ВИТ.  Д  ДЕФИЦИТ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ЈЧЕШЋ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овоља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Вит.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ојчад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ругој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ловини жив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толиз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аворизу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лапсорпцију калцију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лаж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нц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ам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у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адаптирани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крављи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мле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обила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житар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А СЛИКА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ТА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ФОР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МАЛАЦ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ЕРПЛАЗ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идн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тки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ла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уд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кстре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аниотаб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F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кас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тварање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уд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вонас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броја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арисоно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в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486400" y="1533600"/>
            <a:ext cx="3124080" cy="50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А СЛИКА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алним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рајцим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дебљањ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дручју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тафи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ena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ru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ра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ара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ва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ишич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лабост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енз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бдоме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тор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тардац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ипокалцемијск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тан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6280200" y="2428920"/>
            <a:ext cx="2711520" cy="404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3733920" y="4714920"/>
            <a:ext cx="2361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ТГ ЗНАЦИ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00852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4267080" y="1581120"/>
            <a:ext cx="2800440" cy="2685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191120" y="4618080"/>
            <a:ext cx="4572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tg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скелет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еминерализ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еформ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дебљањ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етафиз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широ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пифизометафизал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раниц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изражен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уч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ле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819160"/>
            <a:ext cx="8229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рактеристич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зикал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ла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више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кал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атаз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ичн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е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TH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ниже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25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ж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Calibri"/>
              </a:rPr>
              <a:t>Витамин Д </a:t>
            </a:r>
            <a:r>
              <a:rPr b="1" lang="sr-Latn-RS" sz="2500" spc="-1" strike="noStrike">
                <a:solidFill>
                  <a:srgbClr val="000000"/>
                </a:solidFill>
                <a:latin typeface="Calibri"/>
              </a:rPr>
              <a:t>2000 -5000 IJ dnevno 4-8 nedelja (10 -20 kapi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деква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рекција грешака у исхрани , 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кроб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тат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фата, виш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млечних производ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1-2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3-4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РМАЛ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TG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ДЉИ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3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ле санације уобичајена профилак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ЗАВИСНИ РАХИТИ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ЕТ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НАКЕ РАХИТИ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ЛАБ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СТ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БИЈА ПРОФИЛАКС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Т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РАПИЈС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З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Љ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2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ЕДЕЉ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ЕМ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АД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ЛКАЛНЕ ФОСФАТАЗ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Милсит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Н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ВИТ. Д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З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ВИСНИ РАХИТИ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ЗАВИСНИ РАХИТИ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слеђи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на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Рахи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езистентан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рапијске доз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tg</a:t>
            </a:r>
            <a:r>
              <a:rPr b="0" i="1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нац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хит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3-6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чињ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ЗАВИСНИ РАХИТИ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ИП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ефи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хидроксилаз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нормал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3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0,5-2 g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alciferola  5000-100 000 i.j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ИП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недостај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рец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птор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еа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одг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ц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тимулацију физиолошким дозама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i="1" lang="sr-Latn-RS" sz="1800" spc="-1" strike="noStrike">
                <a:solidFill>
                  <a:srgbClr val="000000"/>
                </a:solidFill>
                <a:latin typeface="Calibri"/>
              </a:rPr>
              <a:t>h: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3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5-20gr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alciferol  i do 1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00 000 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j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РЕЗИСТЕНТНИ РАХИТИС ФОСФОР ДЕФИЦИТ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ФАМИЛИЈАРНА ХИПОФОСФАТЕМ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2174760"/>
            <a:ext cx="4192560" cy="44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,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везан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za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хро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рок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тубуларн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re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асорпциј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обзи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ГФ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мањен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ток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рвих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6-9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рокс.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тубулск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ахитичн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ромен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олаз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зраж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ачког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ериод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хиперфосфатур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 хипо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фатем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фосфат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ијабе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зостај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кундарн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хипе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PTH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  PTH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орма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 -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ње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рпциј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цре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Биохе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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Ca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рмала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AF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ормал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Клиничк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аниф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с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1 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мушке деце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ефрактарни на уобичајене дозе Вит. 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40417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ANKONI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онгенитални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течен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цисти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редуктаз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глобалн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нсуфијенц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рок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тубу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јачан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злучивањ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рино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в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K,Glu, P, HCO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Calibri"/>
              </a:rPr>
              <a:t>3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Ca ,P,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беланч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ви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.)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идиопатск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чешћ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расл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.)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ЕКУН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НИ </a:t>
            </a:r>
            <a:r>
              <a:rPr b="1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istinoz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hereditarna intolerancija FR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galaktozemij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glikogenoza Tip 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Wilsonova bolest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Биохе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, K </a:t>
            </a:r>
            <a:r>
              <a:rPr b="1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, Ca </a:t>
            </a:r>
            <a:r>
              <a:rPr b="1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, AF </a:t>
            </a:r>
            <a:r>
              <a:rPr b="1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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, fosfaturija, aminoacidurija, K-urij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Клиничк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аниф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циј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лабије напредовање у Т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 застој у рас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ЕФИЦИТ ВИТАМИН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овољан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кудно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лагањ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нцу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PF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ојазност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роничн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тр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лапсорпци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оничн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тестиналн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ктивациј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25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1,25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сок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активаци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25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КОВ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-24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дроксилаци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тиконвулзиви,фенитон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РЕЗИСТЕНТНИ РАХИТИС ФОСФОР ДЕФИЦИТ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ФАМИЛИЈАРНА ХИПОФОСФАТЕМ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2174400"/>
            <a:ext cx="4040280" cy="43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РАЗЛИКА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ХИПОВИТАМИНСКОГ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ИЗРАЗИТО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СМАЊЕН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РАСТ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ОДСУТНА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ХИПОТОНИЈА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: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30-60 ngr /kg dnev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ferol  10 - 75 000 i.j. dnev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+  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-4 gr dnev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су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je i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ja 25 (OH) u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ОДРЕЂИВА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Ca-URIJU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ОД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 N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РЕ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URI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A 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НОСА ВИТ. Д 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T D 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ПРЕДОЗИРАЊ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ог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</a:t>
            </a:r>
            <a:r>
              <a:rPr b="0" i="1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P -emij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а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ОТПУ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адокнада раста у виси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ANKONI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400"/>
            <a:ext cx="4041720" cy="43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враћањ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норексиј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лидипс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лиур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ејасн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фебрилнос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ехидра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ахи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еагуј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ХРОНИЧН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ЦИ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ПР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ТУЈ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 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ДНО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KI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: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10-15 ngr/kg dnev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calciferol  5- 50 000  i.j. dnev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H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+ N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PO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1-4 gr dnev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 HCO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2-15 mmol/k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обавез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7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ХИПЕРВИТАМИНОЗ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76680" y="1066680"/>
            <a:ext cx="9525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1000 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sr-Latn-RS" sz="2000" spc="-1" strike="noStrike">
                <a:solidFill>
                  <a:srgbClr val="000000"/>
                </a:solidFill>
                <a:latin typeface="Calibri"/>
              </a:rPr>
              <a:t>– 4000 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иј</a:t>
            </a:r>
            <a:r>
              <a:rPr b="1" i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нтоксикациј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≥ 375 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нмол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л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 ( 150 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нг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л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 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хипер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Ц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лциноз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дов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Ектопичн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депонован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Ca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мек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к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иоелектрич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анасмиисије, мишић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лабост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psti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ука,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норекс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пат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ремећај срчаног рит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депону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рв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дове бубрег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фрокалциноза, хипетртензија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 најтежи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тањима ектопичне калцификације на Ртг миокарда, плућа, панкреаса и желуца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омене на крвним судовима и меким ткивима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рајна обележја интоксикације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Ca/Cr</a:t>
            </a:r>
            <a:r>
              <a:rPr b="1" i="1" lang="sr-Latn-RS" sz="2000" spc="-1" strike="noStrike">
                <a:solidFill>
                  <a:srgbClr val="000000"/>
                </a:solidFill>
                <a:latin typeface="Calibri"/>
              </a:rPr>
              <a:t> ≥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0,4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ажан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ијагностичк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араметар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рестрикциј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схрани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добр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диурез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прониз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ЗНАЦИ И СИМПТОМИ ДЕФИЦИТА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ffffff"/>
                </a:solidFill>
                <a:latin typeface="Calibri"/>
              </a:rPr>
              <a:t>Vitamin D deficit je često klinički n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Манифест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ц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ј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e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: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х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ир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улт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грчев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Физикални нала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шком дефициту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ц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тичне  проме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дулт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ериосални бол у костима на притиса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ернум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ли тиб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ЕФИНИЦИЈА  ДЕФИЦИТА  ВИТАМИН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румск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25 (OH) D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љ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т.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статус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зултат  ј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утритивног  унос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синтезе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кож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НТЕРПР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Ц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≤ 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50 nmol/l (  ≤ 20 ng/ml )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нверз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2,5 nmol/l  25 (OH) D = 1 ng /ml 25 (OH) 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i="1" lang="sr-Latn-RS" sz="2400" spc="-1" strike="noStrike" u="sng">
                <a:solidFill>
                  <a:srgbClr val="ff0000"/>
                </a:solidFill>
                <a:uFillTx/>
                <a:latin typeface="Calibri"/>
              </a:rPr>
              <a:t>40 IJ Vit D = 1µg Vit 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ЕФИНИЦИЈА ДЕФИЦИТА ВИТАМИН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280" y="19807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25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румск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нцентрација  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≤ 50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mol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≤ 2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ежак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≤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25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mol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sr-RS" sz="2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 ≤ 10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ојчад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ц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видљивим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ефектима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недостатк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25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≤ 25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mol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sr-RS" sz="2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 ≤ 10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ЕПОРУКЕ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SPGHAN</a:t>
            </a:r>
            <a:r>
              <a:rPr b="1" i="1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N</a:t>
            </a:r>
            <a:r>
              <a:rPr b="1" i="1" lang="sr-RS" sz="3200" spc="-1" strike="noStrike">
                <a:solidFill>
                  <a:srgbClr val="000000"/>
                </a:solidFill>
                <a:latin typeface="Calibri"/>
              </a:rPr>
              <a:t>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71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ЕРУМСКА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КОНЦЕНТРАЦИЈА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i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25(OH)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50 nmol/l ( 20 ng/l)   =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ФИЦ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25 nmol/l ( 10 ng/l)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=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ФИЦ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И КОШТАНА ЗРЕЛ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2179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драв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ости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одојчади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деце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ахтев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адекватан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1,25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ерумск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онцентраци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апсорпци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реапсорпци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еналних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убул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адејств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егативан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биланс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хитиса и остеомалације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И КОШТАНА ЗРЕЛ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ахитис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и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чест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ногим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емљ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апис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19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ек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63-80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ојчад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ц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верн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вропских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емаљ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мал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ахитис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1988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2003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од.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166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иказа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САД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ојчад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ц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4-54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22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убликаци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83%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описан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фр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мериканац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црнац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кор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в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ил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ојен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(96%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АХИТИ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447920"/>
            <a:ext cx="43434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ТОКУ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РАСТА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РАЗВОЈА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1" lang="sr-RS" sz="1900" spc="-1" strike="noStrike" u="sng">
                <a:solidFill>
                  <a:srgbClr val="000000"/>
                </a:solidFill>
                <a:uFillTx/>
                <a:latin typeface="Arial Narrow"/>
              </a:rPr>
              <a:t>ОСТЕОГЕНЕЗА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веом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сложен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инамићан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процес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етаболизам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 Narrow"/>
              </a:rPr>
              <a:t>Ca i P 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оминанта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изостаје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инералн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е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ПОРОЗ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недостаје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рганск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атр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x -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протеин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ПЕНИЈ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стеопороз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заједно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l-PL" sz="1900" spc="-1" strike="noStrike">
                <a:solidFill>
                  <a:srgbClr val="ff0000"/>
                </a:solidFill>
                <a:latin typeface="Arial Narrow"/>
              </a:rPr>
              <a:t>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723920" y="1600200"/>
            <a:ext cx="39625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Класификациј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рахит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етиопатогенез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)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a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ДЕФИЦИТН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i D   deficit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 D  za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p 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 D  za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p 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Б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) 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P 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DEFIC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N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( Vit D rezsitentni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Фамилијарн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хипофосфатемиј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Fanconi S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3T11:18:03Z</dcterms:created>
  <dc:creator>Corporate Edition</dc:creator>
  <dc:description/>
  <dc:language>en-US</dc:language>
  <cp:lastModifiedBy>USER</cp:lastModifiedBy>
  <dcterms:modified xsi:type="dcterms:W3CDTF">2017-09-25T06:42:34Z</dcterms:modified>
  <cp:revision>22</cp:revision>
  <dc:subject/>
  <dc:title>Slide 1</dc:title>
</cp:coreProperties>
</file>