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326F-C146-477E-80A8-0EA5F405F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DDB-E98F-4807-9F83-0BBFF3996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6BF-A29B-4DED-8CDB-51D2B6CD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076-5BA9-48D8-A905-57E460C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725-BCD8-4632-BEB6-F13D0A4F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373-D0E1-402D-AAA2-B6F40CD1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004-5F62-43E1-906A-653C02B0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445-B84F-4460-B00F-6BBA21CF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716-2951-4822-8413-41B5DF6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F12-F03B-48F1-82E2-EFC201A4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C31-9BA0-4293-A62A-E745108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E26-B48D-4712-B754-71DB9DFE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54A-8DFC-4AC2-B346-DCE411F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AC2-C0CB-4C3E-B0D4-F933263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29C-1694-4AB2-B45D-767562E7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03360" y="933480"/>
            <a:ext cx="67557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75520" y="426960"/>
            <a:ext cx="6350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РОД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9400" y="2028960"/>
            <a:ext cx="665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ИМ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ЉУЦК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РЕДОВ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ЛИ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775080" y="709560"/>
            <a:ext cx="743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РАЈ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ЦПУ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ЕКТРОЛИ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30720" y="968400"/>
            <a:ext cx="7185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ТИ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ДО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ШЧ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 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КРО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0960" y="933480"/>
            <a:ext cx="6026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Т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059560" y="2814480"/>
            <a:ext cx="3229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З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Ч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641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68200" y="868320"/>
            <a:ext cx="676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3240" y="2557440"/>
            <a:ext cx="266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ЗИМ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ПОР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20560" y="152280"/>
            <a:ext cx="64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UTRITIVNI NEDOSTAC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75720" y="1800360"/>
            <a:ext cx="598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ЛАНЧЕВ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З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МИНИРАЈ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СИЋЕНИ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е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609480"/>
            <a:ext cx="8534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81560" y="43488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ИКА ПРИПРЕМЕ ХРАН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за одојч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000" y="1447920"/>
            <a:ext cx="86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 НАМИРНИЦА И НАЧ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Р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РЕ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ТИЛ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КТЕРИЈС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ЛО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ВАР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АС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324000"/>
            <a:ext cx="8960040" cy="186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ЛИКАЦ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70080" y="2852640"/>
            <a:ext cx="83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ТАН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ДЕРОПЕНИЈС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НАТРЕМ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СТРУК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БЕЗОА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 2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50840" y="711360"/>
            <a:ext cx="6035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321200" y="1959120"/>
            <a:ext cx="6583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8-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 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И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Ћ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8400" y="1328760"/>
            <a:ext cx="76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ВО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7-14 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ИЧ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686600" y="909720"/>
            <a:ext cx="586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ДА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ИТИ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ЛАК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УН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Е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НУТРИЦЕ =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Ј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ЕСК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ЈАБ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28600" y="1020600"/>
            <a:ext cx="8610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ГР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2462040"/>
            <a:ext cx="656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TM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0,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6520" y="1162080"/>
            <a:ext cx="7620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97320" y="728640"/>
            <a:ext cx="6486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Ш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(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8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7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5800" y="3354480"/>
            <a:ext cx="7756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ARIOTTOVO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др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У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урузног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.к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Kcal/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152280" y="692280"/>
            <a:ext cx="8991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УТИЦ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ЗРО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А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ЈЕЊ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коњу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билирубинемија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н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лируб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,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у мајк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оид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гнанол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П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уронс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азе хепатоци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коњ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ируб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48:33Z</dcterms:created>
  <dc:creator>No Name</dc:creator>
  <dc:description/>
  <dc:language>en-US</dc:language>
  <cp:lastModifiedBy>USER</cp:lastModifiedBy>
  <dcterms:modified xsi:type="dcterms:W3CDTF">2014-08-31T07:27:18Z</dcterms:modified>
  <cp:revision>56</cp:revision>
  <dc:subject/>
  <dc:title>PowerPoint Presentation</dc:title>
</cp:coreProperties>
</file>