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3994-27FA-4CD7-9AF6-BE5E94D58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9E6B-381F-4697-AAF9-8EE646FFB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B8B0-80C5-4E29-9DA2-5C607F494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3D5B-C170-468C-B70F-50C29160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3267-078C-483C-8E35-71DDA7A5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0080-5339-4C1A-ABD2-980000F25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00B6-101C-4851-BC18-C1F9BDF3B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1AAF-6EB5-457F-8620-C9ACDEC3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EDF9-2107-4686-9050-D0AF9D80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5258-565E-45C9-A091-198A0EA5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1545-26FC-42E1-8C93-B87AE8EE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71D5-FEA1-47F0-9A14-84B8162A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A336-5D5E-4AF3-B6B2-60903380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F431-F848-4B01-A408-2827DD13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5CFD-CE50-49EC-99F0-23E75AAE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DD23-B0C0-4CDD-A1B2-D3B022F43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968560"/>
            <a:ext cx="777240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едијатрија – Исхрана 5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иљана Вулети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1619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Content Placeholder 3" descr="001.JPG"/>
          <p:cNvPicPr/>
          <p:nvPr/>
        </p:nvPicPr>
        <p:blipFill>
          <a:blip r:embed="rId1"/>
          <a:stretch/>
        </p:blipFill>
        <p:spPr>
          <a:xfrm>
            <a:off x="712800" y="1295280"/>
            <a:ext cx="7759800" cy="54882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838080" y="528480"/>
            <a:ext cx="76201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ОЛОШК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ЛОГ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228600" y="390600"/>
            <a:ext cx="73152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 Д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ONCLASSIC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ФEК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304920" y="1203480"/>
            <a:ext cx="5181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одулација Т и Б лимфоци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упресија реналне секрециј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тимулација инсулинске секрециј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гулација синтезе и ослобађањ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TH, ТSХ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неких других хормо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Content Placeholder 3" descr="006.JPG"/>
          <p:cNvPicPr/>
          <p:nvPr/>
        </p:nvPicPr>
        <p:blipFill>
          <a:blip r:embed="rId1"/>
          <a:stretch/>
        </p:blipFill>
        <p:spPr>
          <a:xfrm>
            <a:off x="95400" y="3048120"/>
            <a:ext cx="896760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228600" y="114300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елациј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и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ефицит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оле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малигните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( коло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роста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ој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јајни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аутоиму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боле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( мултипл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клероз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Р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ти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алергијс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V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еуролош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сихијатријс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и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око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рудноћ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оре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ежељен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ефека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фету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овећа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ризи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гестационо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ијабетес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рееклампс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хируршк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боле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ревремено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орођа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74680" y="533520"/>
            <a:ext cx="42926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 Д ПОТРЕБ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-1066680" y="1295280"/>
            <a:ext cx="9753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марно се задовољавају излагањем сунц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андрадна храна генералн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довољ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да покрије потреб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 x недељно директно излагање сунц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15 мин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15% површин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же ( лице, руке, ноге ) у средњеевропским климатским условима , могу задовољити потребе за вит. 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ојазан од малигних болести коже ,  избегавање директног излагања сунцу или употреби заштитних крема са високим факторим заштите посебно за време првих 6 месеци по рођењу и чак раном детињству када су потребе за Вит Д релативно високе, модеран стил живота са боравком у затвореном простору смањује природне изворе и повећава потребу за додатним оралним уносом у виду суплемен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ренутни докази сугеришу да деце са серумско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нц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5 (OH) D ≤ 50 nmol/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мањом имају корист од витамин Д суплемента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322200" y="685800"/>
            <a:ext cx="42498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 Д ПОТРЕБ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250920"/>
            <a:ext cx="8153640" cy="12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утритивне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требе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етета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ит Д </a:t>
            </a:r>
            <a:r>
              <a:rPr b="0" i="1" lang="sl-SI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l-SI" sz="3200" spc="-1" strike="noStrike">
                <a:solidFill>
                  <a:srgbClr val="000000"/>
                </a:solidFill>
                <a:latin typeface="Times New Roman"/>
              </a:rPr>
              <a:t>IJ/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6320" y="1676520"/>
          <a:ext cx="4495680" cy="4483080"/>
        </p:xfrm>
        <a:graphic>
          <a:graphicData uri="http://schemas.openxmlformats.org/drawingml/2006/table">
            <a:tbl>
              <a:tblPr/>
              <a:tblGrid>
                <a:gridCol w="1753920"/>
                <a:gridCol w="978120"/>
                <a:gridCol w="938160"/>
                <a:gridCol w="825480"/>
              </a:tblGrid>
              <a:tr h="13255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zr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god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R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36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– 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 –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–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– 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476600" y="1649520"/>
          <a:ext cx="4594320" cy="4575240"/>
        </p:xfrm>
        <a:graphic>
          <a:graphicData uri="http://schemas.openxmlformats.org/drawingml/2006/table">
            <a:tbl>
              <a:tblPr/>
              <a:tblGrid>
                <a:gridCol w="1532160"/>
                <a:gridCol w="1530360"/>
                <a:gridCol w="1531800"/>
              </a:tblGrid>
              <a:tr h="1027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zrast (god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AR,CN 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, FNB,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≤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-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–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≥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UDNI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OJIL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TextBox 7"/>
          <p:cNvSpPr/>
          <p:nvPr/>
        </p:nvSpPr>
        <p:spPr>
          <a:xfrm>
            <a:off x="155520" y="6319800"/>
            <a:ext cx="4157640" cy="477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200" spc="-1" strike="noStrike">
                <a:solidFill>
                  <a:srgbClr val="ffffff"/>
                </a:solidFill>
                <a:latin typeface="Arial Narrow"/>
              </a:rPr>
              <a:t>World Health Organization, 1974; National Academy of Science (USA),</a:t>
            </a: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sl-SI" sz="1200" spc="-1" strike="noStrike">
                <a:solidFill>
                  <a:srgbClr val="ffffff"/>
                </a:solidFill>
                <a:latin typeface="Arial Narrow"/>
              </a:rPr>
              <a:t>1989;</a:t>
            </a: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sl-SI" sz="1200" spc="-1" strike="noStrike">
                <a:solidFill>
                  <a:srgbClr val="ffffff"/>
                </a:solidFill>
                <a:latin typeface="Arial Narrow"/>
              </a:rPr>
              <a:t>Department of Health (UK), 199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4571640" y="6334200"/>
            <a:ext cx="4460400" cy="459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Narrow"/>
              </a:rPr>
              <a:t>( AAP, CN </a:t>
            </a: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– American Academy of Pediatrics, Committee on Nutrition, 200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Narrow"/>
              </a:rPr>
              <a:t>FNB </a:t>
            </a: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– </a:t>
            </a:r>
            <a:r>
              <a:rPr b="1" i="1" lang="en-US" sz="1200" spc="-1" strike="noStrike">
                <a:solidFill>
                  <a:srgbClr val="ffffff"/>
                </a:solidFill>
                <a:latin typeface="Arial Narrow"/>
              </a:rPr>
              <a:t>Institute of Medicine, </a:t>
            </a: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Food and Nutrition Board, 2010 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965520" y="324000"/>
            <a:ext cx="7205040" cy="88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КТИВНОС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УМАНО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К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0,3-1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/ 1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ВЉЕ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К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0,3-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/ 1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ТИРА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чне формуле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Д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Е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ПТИМАЛН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ЛИЧ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955440" y="958680"/>
            <a:ext cx="7217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ОЈЧ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Р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ВАКОДНЕВН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НОС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400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В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Ж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УД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ШТЕТ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А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АК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ЗЛАЖ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УНЦ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ОЈЧ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ДАПТИРАНО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ОРМУЛ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ХТЕВ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ДАТ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НО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495360" y="914400"/>
            <a:ext cx="8245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ЗИРАЊ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Т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АЖ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НЦ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ОГУЋ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А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ТРАЊЕЊ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ХИСТЕРОЛ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МИСТЕРОЛ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УШТЕЊЕ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ТРАЊУ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БРА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РАЊЕ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АНИ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ЧН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ИШ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52280" y="228600"/>
            <a:ext cx="8602920" cy="65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ИТАМ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 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БИОЛ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ШКИ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БЛИЦИ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тероидн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еривата холестерола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erol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i="1" lang="sl-SI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olekalciferol (D</a:t>
            </a:r>
            <a:r>
              <a:rPr b="1" i="1" lang="sl-SI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Р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Ж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ВИТАМ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7 -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ЕХ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ДР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sl-SI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НЧЕВ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СВ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ЛОС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Н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ВИТ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1" lang="sl-SI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ОЛЕКА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ЦИФ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ОЛ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Content Placeholder 3" descr="Reaction-Dehydrocholesterol-PrevitaminD3.png"/>
          <p:cNvPicPr/>
          <p:nvPr/>
        </p:nvPicPr>
        <p:blipFill>
          <a:blip r:embed="rId1"/>
          <a:stretch/>
        </p:blipFill>
        <p:spPr>
          <a:xfrm>
            <a:off x="3594240" y="3276720"/>
            <a:ext cx="5168880" cy="121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533520" y="175248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ЗАВИСИ ОД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географс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шири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годишње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о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ужи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злага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унц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количи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мелан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кож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об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а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ужи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злага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унц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тепе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зашти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ун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ontent Placeholder 3" descr="Skinlayers.png"/>
          <p:cNvPicPr/>
          <p:nvPr/>
        </p:nvPicPr>
        <p:blipFill>
          <a:blip r:embed="rId1"/>
          <a:stretch/>
        </p:blipFill>
        <p:spPr>
          <a:xfrm>
            <a:off x="4648320" y="1766880"/>
            <a:ext cx="3962160" cy="371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Rectangle 3"/>
          <p:cNvSpPr/>
          <p:nvPr/>
        </p:nvSpPr>
        <p:spPr>
          <a:xfrm>
            <a:off x="3962520" y="5834160"/>
            <a:ext cx="4724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епидермални кератоцити и дермални фибробласт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57200" y="457200"/>
            <a:ext cx="754380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тепе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кожн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родукциј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витамин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88280" y="228600"/>
            <a:ext cx="9180000" cy="69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Р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ХРАНА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ивотињског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рекла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ибљ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љ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иб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уманц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џигериц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огаће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леч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ормул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уте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ТРАНСПО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itamin D Binding Protein ( DBP )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ru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св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ор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ризација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ксичн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е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боли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 lumisterol, tahisterol, suprasterol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sr-R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sr-Latn-R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5,6 trans holekacifer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меланински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заштитни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кто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пер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нтно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кожно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сквамацијом ,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ниченим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 DBP )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транспортним капацитето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токсикација Витамином Д излагањем сунцу немогућ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Унос храном или суплемената – липосолубилне супстанце – хиломикрон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циркулацију –лимфоток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250920" y="482760"/>
            <a:ext cx="37875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ДЕПОНОВАЊ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76320" y="1717560"/>
            <a:ext cx="8991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ваки вишак у уносу витамина Д  (прело коже или алиментарни )  депонован  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јетри, мишићима, масном ткиву. к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што резерви Вит Д се ствара у фетусу, нестају врло брзо по рођењу , у току првих недељ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бог неограничене интестиналне  ресорпције, високе акумулације, екцесивни унос оралним путем Витамина Д може озбиљно угрозити здрављ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сти проблем настаје са парентералном применом витамина Д преко мер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156960" y="762120"/>
            <a:ext cx="26845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КТИВА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52280" y="1500120"/>
            <a:ext cx="8686800" cy="55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-2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идроксилација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25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идроксилаз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јетр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идроксилаз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25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убрег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ст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лацент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а би испољио своје биолошко дејство витамин Д мора бити активиран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ранспорт  преко ДБП , делимично Алб и плазма липопротеи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ктивациј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хидролизом н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 2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 микрозомима хепатоцит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25 (OH)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олекалциферол- калцидио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главни циркулишући облик витамина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еко ДБП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25 (OH)D  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митохондрије реналних проxималних тубулских  ћелија  макрофаге, моноците, ћелије скелета, зуба, дојки, простате, колона, панкреаса, адреланих жлезда, плаценте и других ткив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инална  1α хидроксилација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,25 (OH)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лцитриол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јпотентнији метаболит витамина Д, стероидни хормон одговоран за бројне и најважније физиолошке процесе у тел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76320" y="1536840"/>
            <a:ext cx="5638680" cy="54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25 (OH)  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полуживо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циркулациј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0-20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да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,25 (OH)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инактива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сам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4 -7</a:t>
            </a:r>
            <a:r>
              <a:rPr b="0" i="1" lang="sr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серумски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ниво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25</a:t>
            </a:r>
            <a:r>
              <a:rPr b="1" i="1" lang="sr-Latn-R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OH</a:t>
            </a:r>
            <a:r>
              <a:rPr b="1" i="1" lang="sr-Latn-R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D 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се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користи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као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реални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параметар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витамин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Д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статуса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организму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Активнос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алф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хидрокслилаз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i="1" lang="sr-Latn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 OH)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бубрег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примар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стимулиш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хип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,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хип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хормо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рас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полн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хормо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пролактив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низа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нив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серум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,25(OH)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52280" y="609480"/>
            <a:ext cx="28958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КТИВА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" descr="79-1"/>
          <p:cNvPicPr/>
          <p:nvPr/>
        </p:nvPicPr>
        <p:blipFill>
          <a:blip r:embed="rId1"/>
          <a:stretch/>
        </p:blipFill>
        <p:spPr>
          <a:xfrm>
            <a:off x="5715000" y="685800"/>
            <a:ext cx="3124080" cy="572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313200" y="533520"/>
            <a:ext cx="33249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НАКТИВАЦИЈ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04920" y="1270080"/>
            <a:ext cx="88390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-24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-2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идроксила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лукурониза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улфата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актонација  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                                                        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 бубрезима, цреву, хрскавици, кожи, плаценти, простати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                                            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активни хидроксисолубилни продук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                                            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lcitronic аcid 1,25 carbocsilo deriv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321120" y="4200480"/>
            <a:ext cx="27154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ЕКСКРЕ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523880" y="512460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lcitronic acid 1,25 carboxilo deriv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ко урина и жу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28600" y="76320"/>
            <a:ext cx="5562720" cy="64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ОЛОШК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ЛОГ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. Д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ГУЛА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ОМЕОСТАЗ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ИНЕРАЛИЗА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ШТАНОГ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ГЛОБНОГ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КИ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СИНТЕ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РАНСПОРТНОГ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ТЕИ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РЕВИ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ТИМУЛИШ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АПС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а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AK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УБУЛ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ЛИФЕРАЦИ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ИФЕРЕНЦИЈАЦИ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ЋЕЛ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ИМУНОРЕГУЛА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5500800" y="838080"/>
            <a:ext cx="3414600" cy="5434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8:37:51Z</dcterms:created>
  <dc:creator>No Name</dc:creator>
  <dc:description/>
  <dc:language>en-US</dc:language>
  <cp:lastModifiedBy>USER</cp:lastModifiedBy>
  <dcterms:modified xsi:type="dcterms:W3CDTF">2017-09-25T06:37:34Z</dcterms:modified>
  <cp:revision>38</cp:revision>
  <dc:subject/>
  <dc:title>PowerPoint Presentation</dc:title>
</cp:coreProperties>
</file>