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5C2-7A62-4844-9066-C30E997D9CA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0221-8CB4-4B65-BA31-FF1E9F3F82A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64E-F4B6-4AF0-AB58-FCDD08BE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EE8-E9A9-4686-B670-2906DE9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24E-9983-40F7-9E78-C821900D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3D1-EF1F-46C9-AABB-334B0C87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749-2CBA-4479-B188-58C89CE1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2AA-E5D5-4BEF-86FB-48D61E0D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7BB-881E-4569-98FC-8C7EAC4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A43-A3EA-4A1B-B12E-DDAE36B5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A67-2818-4941-9F46-48A0578A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4E2-0D99-475E-85ED-5758843F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6E6-B6C6-40DB-8A18-2CD3279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495-A79F-4D56-ABF9-121B36A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8996-8465-4147-8D06-683AE617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E ДНЕВ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5080" y="990720"/>
            <a:ext cx="9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ТРИБУЦИЈА ПОТРОСЊЕ Kcal /kg /24h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2057400"/>
            <a:ext cx="809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ЗAЛНИ МЕТAБОLIЗАM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-5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T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-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       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-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ЕKСKРETИМА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10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. ДИНАМСКО DЕЈSТВO ХРАН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-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AК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AМ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Њ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TР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,5 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НОТ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Ј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12%   ЕНEР. 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А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ДРАТA  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В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АНЉИВЕ МАТЕРИЈЕ З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4920" y="914400"/>
            <a:ext cx="86058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И   ОБЕЗБ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ЈУ  А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 ЕНЕРГ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ИНО ГРУПА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 СИНТЕТ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 У ОРГАНИЗМУ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СЕНЦИЈАЛНИХ АК : 1.  ФЕНИЛ АЛАН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ИЗОЛЕУЦ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ЛЕУЦ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ЛИЗ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МЕТИОН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ТРЕОН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ТРИПТОФА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 ВАЛ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А НЕДОНО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ШЧ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Д:  ЦИСТИН, АРГИНИН,ТИРОЗИН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ТАУР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МAСТИM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303640" y="380880"/>
            <a:ext cx="33350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НЕ КИСЕЛ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5840" y="178452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Ј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АТОМА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ТКО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  8-1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УГО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440" y="344484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ГУБА ВЕЗА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16240" y="4892760"/>
            <a:ext cx="83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М.К.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ОСТРУКО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Н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И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ЕСТРУКО  ( ПОЛИНЕЗ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И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Ћ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ЕН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CPUF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8680" y="371520"/>
            <a:ext cx="8951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 УГЉЕНИМ ХИДРА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42440" y="1260360"/>
            <a:ext cx="835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дисахарид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ЊЕ О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5%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А У.Х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ТО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КАТЈО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ХИДРАЦИЈ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685800"/>
            <a:ext cx="8839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НИЧКА ПРОЦЕНА СТАЊА УХРАЊЕНО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2560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190512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АМЕТРИ ЗА ПРОЦЕНУ СТАЊА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ХРАЊЕ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АЉНА  АНАМНЕЗА  О 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НИЧКИ  ПРЕГЛЕ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ЕЊ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M, Т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ЕСНИ  ЛАБОРАТОРИЈСКИ  ПАРАМЕТР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gb,Hkt,Alb,F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04920"/>
            <a:ext cx="67262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O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 MAТ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ЈAМ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09360" y="1260360"/>
            <a:ext cx="823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ГУЛАЦИЈУ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У И ЕЛИМИНАЦИЈ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ВО У КРВИ И ДРУГИМ СИСТЕМ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КОДНЕВНЕ ПОТРЕБ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ЈАВУ ДИСБАЛАН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ЕЂУ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295200"/>
            <a:ext cx="9350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СВ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K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M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ГРАЂЕНИХ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 НОВ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ТКИ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0,3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НЕРАЛА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47400" y="380880"/>
            <a:ext cx="86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ПОРУ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ЕМЕНТ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89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5791320" cy="4620960"/>
        </p:xfrm>
        <a:graphic>
          <a:graphicData uri="http://schemas.openxmlformats.org/drawingml/2006/table">
            <a:tbl>
              <a:tblPr/>
              <a:tblGrid>
                <a:gridCol w="2286000"/>
                <a:gridCol w="1778040"/>
                <a:gridCol w="17272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РОЕЛ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ТИ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mmol/k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 mmol/k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 mmol/24h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 mg/24h</a:t>
                      </a: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mg/24h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mg/24h.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–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5-2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133720" y="914400"/>
            <a:ext cx="4419360" cy="9471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ЗА ИСХРА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22096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ЕРГЕТСК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УТРИТИ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Б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Ч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РО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Р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СПОРЕ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АВАЊ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ОБРО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ЕТИ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06080" y="1473120"/>
            <a:ext cx="411264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НИЧКИ ПРЕГЛЕ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00560" y="2438280"/>
            <a:ext cx="69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МЕРEЊЕ   ТЕЛEСНЕ  МАС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Е ВИСI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КOЖНОГ МАСНОГ ТКИВ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ФИЗIКАЛНИ ПРЕГЛEД  ОРГАНA  И СИСТЕ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38560" y="1143000"/>
            <a:ext cx="612612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БОРАТОРИЈСКИ ПАРАМЕ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236232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ОГЛOБ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8120" y="3048120"/>
            <a:ext cx="25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14400" y="3276720"/>
            <a:ext cx="5867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АТОКРИT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62120" y="39625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БУМИН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76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143000" y="519732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13160" y="609480"/>
            <a:ext cx="59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ФИЗИОЛ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 НЕЗРЕЛ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95120" y="1641600"/>
            <a:ext cx="86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 хра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гест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герна барије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а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2120" y="1066680"/>
            <a:ext cx="7010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USER</cp:lastModifiedBy>
  <dcterms:modified xsi:type="dcterms:W3CDTF">2017-09-25T06:29:29Z</dcterms:modified>
  <cp:revision>63</cp:revision>
  <dc:subject/>
  <dc:title>PowerPoint Presentation</dc:title>
</cp:coreProperties>
</file>